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B2-C529-421E-BCDA-86073777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677-FF08-4192-A5D1-ADF7C3F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3D3-330A-4BBC-8854-0DA44D7F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2B2-2398-41EE-BC9D-81E06720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152-E673-438B-80F9-F1CD92A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4BA-1BCE-45D5-B726-B1EDE38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C02-69DB-44D4-8078-D8D7076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9C6-FC03-4071-8A97-6CB3570F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7FA-ED7C-4348-890F-48BF3040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3D0-E248-46E7-8894-9F305D9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2B2-963D-4CB1-8212-49FB9F1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995-E377-4C5D-9402-963A1AE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504-4DE7-4C69-AEE9-0B74D328D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mall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rker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lack wolf’s name was 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49520"/>
            <a:ext cx="3786480" cy="392724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asked Dom why he is living alone by himself in a 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76720" cy="3398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om told Kino why he lived alone Kino noticed that Dom had a lot of scars and scrat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 told Kino that has been attacked by many hunters and other animals but has always seemed to escape from th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919240" y="2147760"/>
            <a:ext cx="3305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ived with Dom for many months after th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while Dom was out hunting Kino heard many other wolf’s near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38240" cy="207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5105520" cy="37479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ith those wolfs was Kino’s mom who was still looking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264200" y="1828800"/>
            <a:ext cx="3622680" cy="269568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ran to his mom and he was very happy she had found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71880" y="2077920"/>
            <a:ext cx="4800600" cy="357192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 came back and didn’t understand why there were all these wolfs by hi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11760" cy="312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86200" cy="28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saw Kino and his mom and then underst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30516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4800600" cy="357192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7621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mall and happy wo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71800" y="2390760"/>
            <a:ext cx="391932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said goodbye to Dom and then left to go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172200" y="1523880"/>
            <a:ext cx="2743200" cy="28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wolf’s name was K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43200" y="2824200"/>
            <a:ext cx="32479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loved to play with his friends and his m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4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331488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day Kino got lost from his mom when he fell into a r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280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looked and looked for his mom but couldn’t find her at 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133720" y="2079720"/>
            <a:ext cx="4267080" cy="312084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o was lost for many days and couldn’t find anything that looked famil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721040" cy="3452760"/>
          </a:xfrm>
          <a:prstGeom prst="rect">
            <a:avLst/>
          </a:prstGeom>
          <a:ln w="0">
            <a:noFill/>
          </a:ln>
        </p:spPr>
      </p:pic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no found a cave and went into it until a big black wolf appea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990960" cy="414036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o was scared but at the same time interested in the black wo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386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990960" cy="414036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5:11Z</dcterms:created>
  <dc:creator>itsuser</dc:creator>
  <dc:description/>
  <dc:language>en-US</dc:language>
  <cp:lastModifiedBy>itsuser</cp:lastModifiedBy>
  <dcterms:modified xsi:type="dcterms:W3CDTF">2009-04-14T16:10:37Z</dcterms:modified>
  <cp:revision>9</cp:revision>
  <dc:subject/>
  <dc:title>The Small Wolf</dc:title>
</cp:coreProperties>
</file>